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F5BA-E4C3-4BED-87A5-B9579E23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4865-D937-4246-ACB3-64CCC1D4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7C5F-4FE4-4087-8B97-F49E6AED5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9FF2-4DBE-4324-B6E2-25394288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620E-B3F4-4CEC-A707-63D9C0BD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6553-76FA-4938-AFA5-1C7263D8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2315-37CC-44E6-9E03-EB070BD6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F0F6-F3B4-42AE-8AD7-A5D6E187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7F27-8BD5-4828-947B-70E8BA74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55FA-68D2-4DB5-8C7D-439649DA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E112-E50D-4529-B983-CDC79BB9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0634-5BE6-4EA5-A88D-2A219483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3DC8-6761-4B05-AC86-D5A9A5CA8973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Calibri"/>
              </a:rPr>
              <a:t>Tuloksia liikenneministeriön tulevaisuuskatsauksen jäsentämisestä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Sami Majaniemi LVM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Jouni Tuomisto TH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Calibri"/>
              </a:rPr>
              <a:t>Avainsanat jakeille, joista ei aihetta muutoksi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406600" y="1928880"/>
            <a:ext cx="85312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Calibri"/>
              </a:rPr>
              <a:t>Avainsanat jakeille, jotka sisältyvät valmiiks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692360" y="1471680"/>
            <a:ext cx="932184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Calibri"/>
              </a:rPr>
              <a:t>Avainsanat jakeille, jotka huomioitu painotuksell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411280" y="1679400"/>
            <a:ext cx="896328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Calibri"/>
              </a:rPr>
              <a:t>Avainsanat jakeille, jotka huomioitu lisäyksellä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401920" y="1782720"/>
            <a:ext cx="896292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Päätösten ehdottaminen suosituin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3760" y="1511280"/>
            <a:ext cx="924732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Calibri"/>
              </a:rPr>
              <a:t>Onko ehdotukset otettu huomioon uudessa versiossa (kaikki sivut)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1542960"/>
            <a:ext cx="914400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Calibri"/>
              </a:rPr>
              <a:t>Miten ehdotukset suhteutuvat katsauksen luonnoksee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1574640"/>
            <a:ext cx="914400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yysuhteiden tarkastel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Jakeet pyrittiin jakamaan kolmeen luokkaa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äätös: Ehdotus toimenpiteestä tai päätöksestä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aikutus: Väite jonkin asian (esim. päätöksen) vaikutuksesta toiseen asia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rvo: Osallistujan kannanotto siitä, että jokin asia on hyvä, tavoiteltava tai huono, vältettävä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84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Jae: yksi kommentti tai yksi kappale pitemmästä tekstistä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Päätösjakeiden tägipilv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-237960" y="1278000"/>
            <a:ext cx="96199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Vaikutusjakeiden tägipilv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-233280" y="1279440"/>
            <a:ext cx="961056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rvojakeiden tägipilv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-181080" y="1320840"/>
            <a:ext cx="961092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Calibri"/>
              </a:rPr>
              <a:t>Avainsanat jakeille, jotka vastustavat tai ovat ristiriidassa katsauksen kanss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276720" y="2757600"/>
            <a:ext cx="7022880" cy="4057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ksityisyyden suojaan on kiinnitettävä erityistä huomio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ettisyyden ja julkisen vallan suhde nousi esille use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ieliikennesuunni-telmia kohtaan tyytymättömyytt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Calibri"/>
              </a:rPr>
              <a:t>Avainsanat jakeille, jotka tukevat katsaus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195640" y="1763640"/>
            <a:ext cx="8818560" cy="5095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ajempi kirjo sano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asaisesti eri aihepiireist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yvä uutinen katsauksen tasapainon kannal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6T19:36:02Z</dcterms:created>
  <dc:creator>Tuomisto Jouni</dc:creator>
  <dc:description/>
  <dc:language>en-US</dc:language>
  <cp:lastModifiedBy>Tuomisto Jouni</cp:lastModifiedBy>
  <dcterms:modified xsi:type="dcterms:W3CDTF">2014-06-26T22:06:06Z</dcterms:modified>
  <cp:revision>8</cp:revision>
  <dc:subject/>
  <dc:title>Tuloksia liikenneministeriön tulevaisuuskatsauksen jäsentämisestä</dc:title>
</cp:coreProperties>
</file>